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0CD0-D376-42A8-B074-1827748E74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3C0A-AA67-4851-8D6D-4CCF8015531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923-DF58-4831-B844-1474BF31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FB3-3FE7-4628-AC85-1019FECD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1B4-F87F-4886-9B65-B505CB9B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108-3FBA-4DBD-9930-3E9C37E1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1F06-1E34-4FDC-A362-FB1B66D7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29BC-A35C-41F7-B70A-8C81F47F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64C1-2EFD-489E-83FC-81FCA295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8478-EED9-4F4E-A9C0-1C5BEA16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0DF0-B890-456B-9D4D-0A6F5B38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BA48-C95D-4FD7-A0FE-453A32DB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C803-C0DC-4E58-A449-53CC643E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6F0-D3BC-4AE5-91CA-302989BC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3847-423C-4260-87E2-E3F02B43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C89A-97DA-460B-A748-CFF034BA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E662-ACD4-4E57-A32D-03174277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4878-0914-4D9F-9F28-5442E0EB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CFE2-BC44-4336-AE81-01313537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14E-C6F8-4E87-87DE-FBE98891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D92-1B8B-4B81-95A6-962D387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FF2-ACEF-418D-BEDD-DC81D456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C40-49C4-4893-B185-73435E48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6E8-741B-4D77-871B-C02FCF38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87C-4299-4092-9408-940B9EBA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B6F-E2D5-4DB4-90C2-8B013989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BBB3-254C-413B-9919-EFF67BF6C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52B2-53DD-4AC7-9280-2E88754DD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thérapie des infections neuro-méning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érence de consensus 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9 novem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tualisatio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072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S. pneumonia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sensibilité diminué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à la péni G en France (CN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3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348000" cy="276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3632040"/>
            <a:ext cx="6769080" cy="322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ées CN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1" descr=""/>
          <p:cNvPicPr/>
          <p:nvPr/>
        </p:nvPicPr>
        <p:blipFill>
          <a:blip r:embed="rId1"/>
          <a:stretch/>
        </p:blipFill>
        <p:spPr>
          <a:xfrm>
            <a:off x="971640" y="1679400"/>
            <a:ext cx="72356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1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8244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éningite/bactérié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31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ial"/>
              </a:rPr>
              <a:t>Sensibilité aux beta lac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8000" y="1959120"/>
            <a:ext cx="8771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olution des résistances entre 2001 et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omic Sans MS"/>
              </a:rPr>
              <a:t>facteurs de risque de résistance du pneumoc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hospitalisation réc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antibiothérapie (</a:t>
            </a: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-lactamine) dans les 6 mois qui précè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immuno-dépr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Nourriss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res antibiotiques utilisables en cas de ré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ifamp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mipén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luoroquinolones anti pneumococciques (lévofloxacine, moxifloxac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inézolid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ssociation céfotaxime/ceftriaxone + vanco syner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n des années 80 en Espagne et au Royaume U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1997 e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NR e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30 %  pénicilline G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25 % amoxicilline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e diminution de la sensibilité pour le céfotax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nsibilité du méni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64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Données géné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gravité de l'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isqu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imiser le risque d'erreur dans le choix du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icularité du compartiment neuro-méni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sage de la barrière hémato-encépha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écessité d'une bactérici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 supérieure à la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imum d'activité sur modèle expérimental avec des concentrations &gt; à 10 à 30 x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oujours sensible à l'amoxici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ynergie avec l'association avec la gentam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n cas d'échec : efficacité in vivo du cotrimox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éléments de pharmacologie et de pharmacodyna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-lactam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pénétration méningée des </a:t>
            </a:r>
            <a:r>
              <a:rPr b="0" lang="fr-FR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-lactamines faibles en l'absence d'inflammation des méni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emi-vie d'élimination supérieure à celles du compartiment plasmat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odèle anim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oncentration &gt; 2 à 3 x CMI = insuffisant 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rapport concentration sérique / LCR =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ugmentation des posologies en cas de sensibilité diminué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otaxime : 3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triaxone : 1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Glycopep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auvaise pénétration méningée de la vancomy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difficulté d'atteindre des ratio concentration /CMB de 5 à 10, même à 40 à 6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vantage de la perfusion contin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meilleure pénétration dans le LCR, dose de charge à 15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n cas d'administration de corticoï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pénétration de la vanco suffisante en cas d</a:t>
            </a:r>
            <a:r>
              <a:rPr b="0" lang="ja-JP" sz="21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administration en perf continue (CID, 20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À utiliser en cas de pneumocoque résistant aux C3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luoroquinolones et linézo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ur place reste à éval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nne concentration dans le L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usion méningée : 70 % pour le linézo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tude sur modèle animaux encourage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'étude clinique chez l'homm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/- bactériost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24000" y="2543040"/>
            <a:ext cx="84596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6770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ans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186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Durée du trai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neumocoque 10 jours si évolution favorable dès 48h et CMI C3G ≤ 0,5 mg/l, sinon 14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ocoque 4 jours si évolution favorable dès 48h, sinon 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istéria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Streptocoque agalacti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4-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ite bactérienne non documentée d’évolution favorable : poursuite de l’antibiothérapie jusqu’au 14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èm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itements adjuvants : la corticothérap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'inflammation méningée et l'œdème céré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xaméthasone réduit les séquelles auditives dans les méningites à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hez l'enf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ême résultats dans la même population pour les méningites à pneumocoque si corticoïdes administrés avant ou au moment de la première administration d'antibio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ndance à avoir plus de guérison sans séquelles chez l'adulte traité par la déxamétha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ffet sur la mortalité :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sologie 0.4 à 0.6 mg/kg/jour répartis en 4 injections pendant 2 à 4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én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es défenses naturelles de l'organism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a diffusion des antibiotiques dans le LCR (surtou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lactamines et vancomycin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nette diminution depuis la vaccination chez le nourris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Strepto agalactia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19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bcès cérébr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cro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reptocoques non groupabl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S. anginosus, S. intermedius, S. constellat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aérobi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Peptostreptococc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acteroid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cilles à Gram nég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usion des antibiotiques dans le parenchyme céré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hiamphéni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tronidaz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/- fosfomy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ncipe du 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dico-chirur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à l'antibiogramme : céphalosporines de troisième génération; thiamphénicol ?, métronidazole, fosfomycine, rifamp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Pharmac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eurs influençant la pénétration des antibiotiques dans le L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augmentation perméabil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lécules de petite ta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e liaison aux proté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'ionisation à pH physi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ipophi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diminuant la péné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idos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ntration élevée en protéines dans le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mpérature élevé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lai d'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plus rapide possible = urgence antibio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ximum : 3 heures après l’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ision thérapeutique prise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ent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spect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cytol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aptation selon résultats bactériologiques à 48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ntibiotique de première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définir selon les orientation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urp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5800" y="2362320"/>
          <a:ext cx="35053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05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4"/>
          <p:cNvGrpSpPr/>
          <p:nvPr/>
        </p:nvGrpSpPr>
        <p:grpSpPr>
          <a:xfrm>
            <a:off x="5105520" y="1981080"/>
            <a:ext cx="2949480" cy="3856680"/>
            <a:chOff x="5105520" y="1981080"/>
            <a:chExt cx="2949480" cy="3856680"/>
          </a:xfrm>
        </p:grpSpPr>
        <p:graphicFrame>
          <p:nvGraphicFramePr>
            <p:cNvPr id="106" name="Object 5"/>
            <p:cNvGraphicFramePr/>
            <p:nvPr/>
          </p:nvGraphicFramePr>
          <p:xfrm>
            <a:off x="5105520" y="1981080"/>
            <a:ext cx="2949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981080"/>
                      <a:ext cx="2949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6"/>
            <p:cNvSpPr/>
            <p:nvPr/>
          </p:nvSpPr>
          <p:spPr>
            <a:xfrm>
              <a:off x="5138640" y="5012280"/>
              <a:ext cx="29062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Times New Roman"/>
                </a:rPr>
                <a:t>PURPURA EXTENS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219852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Orientation thérapeutique selon le micro-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aux </a:t>
            </a:r>
            <a:r>
              <a:rPr b="0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-lactam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MI &gt; ou = 0.1 mg/l)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 : 20 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neumocoque de sensibilité diminuée à l'amoxicilline voire aux C3G injectables : r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18 % et 12.5 % I pour l'amoxi et le céfotax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as de résistance pour ces deux derniers antibiot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vanco toujours effic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2:02:17Z</dcterms:created>
  <dc:creator>yves hansmann</dc:creator>
  <dc:description/>
  <dc:language>en-US</dc:language>
  <cp:lastModifiedBy>invit</cp:lastModifiedBy>
  <dcterms:modified xsi:type="dcterms:W3CDTF">2019-03-06T14:49:28Z</dcterms:modified>
  <cp:revision>15</cp:revision>
  <dc:subject/>
  <dc:title>Antibiothérapie des infections neuro-méningées</dc:title>
</cp:coreProperties>
</file>